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E219-1037-40F3-9662-703002BC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6ABD-C649-4D44-85E4-625845263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4F0C-8C63-4A92-9C9E-0F7BEECAA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B5D8-C745-4729-9C2D-5E06E9AE0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1449-F235-4E86-98E5-3801CB0E7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C6BE-B0A8-407D-9FFB-569CD0915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182B-E563-46DE-ABF1-58AB0BB1C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BC9-1B14-4806-8F3A-75A655BB8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A401-E39A-45D7-A506-F58E02997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4237-145C-4007-97F1-DBA053E1F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D4B-65CA-49DF-948F-7A9A7FE8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B3FF-2432-44EC-8242-05235580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1E7B-5FB0-42E4-A7E5-A50D45024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3B4E-4F95-4831-8F7D-5C486B69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84BC-426A-4CA7-BB48-FEECAB8F9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73C9-12DE-45D4-BEED-D23EAA424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87D-2EA8-47A0-827C-4284DAAA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E4A-3970-4073-8D78-ED4D9287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A30-C4AE-4828-99DE-71B369D7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661-691E-4FD5-AB7A-D38C5953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B7B-86FD-4C6D-955B-D89BEB9B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B84-FD79-44D4-B647-33923DFB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201-0F01-4827-8536-13E8D37A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36A-E5E0-4897-B670-EDD3E275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DDD-840A-43EF-A18C-2215F316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862-526B-4145-AC8A-2A86E60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B4D-1387-4727-AFC0-55575B07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AC5-760E-4027-A0F3-76F75CE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39A2-9990-499A-B703-F2DB26813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23880" y="20574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ship between fractions and dec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more thing…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divide, REMEMBER, add zeros to finish your divi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3581280" y="3200400"/>
            <a:ext cx="1295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752480" y="4419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THINGS CAN HAP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1523880" y="137160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2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3"/>
          <p:cNvSpPr/>
          <p:nvPr/>
        </p:nvSpPr>
        <p:spPr>
          <a:xfrm>
            <a:off x="83808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vision problem 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6720" y="2590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Termin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1447920" y="3505320"/>
                <a:ext cx="67816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2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3333333333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6"/>
          <p:cNvSpPr/>
          <p:nvPr/>
        </p:nvSpPr>
        <p:spPr>
          <a:xfrm>
            <a:off x="1600200" y="5029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vision problem goes on forever….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90720" y="1981080"/>
            <a:ext cx="7391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ingle digit might repea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3333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a group of digits might repe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275275275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repeating decimals by placing a line over the digit or group of digits that rep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295280" y="3048120"/>
            <a:ext cx="6782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33333…. Becomes .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275275….becomes .2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5627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571500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914400" y="1676520"/>
            <a:ext cx="5257800" cy="1187280"/>
            <a:chOff x="914400" y="1676520"/>
            <a:chExt cx="5257800" cy="1187280"/>
          </a:xfrm>
        </p:grpSpPr>
        <mc:AlternateContent>
          <mc:Choice xmlns:a14="http://schemas.microsoft.com/office/drawing/2010/main" Requires="a14">
            <p:sp>
              <p:nvSpPr>
                <p:cNvPr id="140" name="Object 3"/>
                <p:cNvSpPr txBox="1"/>
                <p:nvPr/>
              </p:nvSpPr>
              <p:spPr>
                <a:xfrm>
                  <a:off x="914400" y="1676520"/>
                  <a:ext cx="650880" cy="11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Text Box 4"/>
            <p:cNvSpPr/>
            <p:nvPr/>
          </p:nvSpPr>
          <p:spPr>
            <a:xfrm>
              <a:off x="1752480" y="205740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Will be 1.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10"/>
          <p:cNvGrpSpPr/>
          <p:nvPr/>
        </p:nvGrpSpPr>
        <p:grpSpPr>
          <a:xfrm>
            <a:off x="1066680" y="3124080"/>
            <a:ext cx="7186680" cy="1524240"/>
            <a:chOff x="1066680" y="3124080"/>
            <a:chExt cx="7186680" cy="1524240"/>
          </a:xfrm>
        </p:grpSpPr>
        <p:sp>
          <p:nvSpPr>
            <p:cNvPr id="143" name="Text Box 6"/>
            <p:cNvSpPr/>
            <p:nvPr/>
          </p:nvSpPr>
          <p:spPr>
            <a:xfrm>
              <a:off x="1066680" y="342900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.2 will b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7"/>
                <p:cNvSpPr txBox="1"/>
                <p:nvPr/>
              </p:nvSpPr>
              <p:spPr>
                <a:xfrm>
                  <a:off x="3429000" y="3200400"/>
                  <a:ext cx="896760" cy="12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Text Box 8"/>
            <p:cNvSpPr/>
            <p:nvPr/>
          </p:nvSpPr>
          <p:spPr>
            <a:xfrm>
              <a:off x="4648320" y="358128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Simplified to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9"/>
                <p:cNvSpPr txBox="1"/>
                <p:nvPr/>
              </p:nvSpPr>
              <p:spPr>
                <a:xfrm>
                  <a:off x="7467480" y="3124080"/>
                  <a:ext cx="785880" cy="152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Text Box 11"/>
          <p:cNvSpPr/>
          <p:nvPr/>
        </p:nvSpPr>
        <p:spPr>
          <a:xfrm>
            <a:off x="1219320" y="5105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le numbers stay the sa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ni_thinkingcap"/>
          <p:cNvPicPr/>
          <p:nvPr/>
        </p:nvPicPr>
        <p:blipFill>
          <a:blip r:embed="rId1"/>
          <a:stretch/>
        </p:blipFill>
        <p:spPr>
          <a:xfrm>
            <a:off x="6095880" y="2819520"/>
            <a:ext cx="2190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4"/>
          <p:cNvGrpSpPr/>
          <p:nvPr/>
        </p:nvGrpSpPr>
        <p:grpSpPr>
          <a:xfrm>
            <a:off x="838080" y="380880"/>
            <a:ext cx="2286000" cy="3733920"/>
            <a:chOff x="838080" y="380880"/>
            <a:chExt cx="2286000" cy="3733920"/>
          </a:xfrm>
        </p:grpSpPr>
        <p:sp>
          <p:nvSpPr>
            <p:cNvPr id="51" name="Rectangle 2"/>
            <p:cNvSpPr/>
            <p:nvPr/>
          </p:nvSpPr>
          <p:spPr>
            <a:xfrm>
              <a:off x="8380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10666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2952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5238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7524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8954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19810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26668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24382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2096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WordArt 16"/>
          <p:cNvSpPr txBox="1"/>
          <p:nvPr/>
        </p:nvSpPr>
        <p:spPr>
          <a:xfrm>
            <a:off x="3809880" y="5335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wo Question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334120" y="259092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8"/>
          <p:cNvSpPr txBox="1"/>
          <p:nvPr/>
        </p:nvSpPr>
        <p:spPr>
          <a:xfrm>
            <a:off x="4038480" y="3809880"/>
            <a:ext cx="35816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nd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838080" y="380880"/>
            <a:ext cx="2286000" cy="3733920"/>
            <a:chOff x="838080" y="380880"/>
            <a:chExt cx="2286000" cy="3733920"/>
          </a:xfrm>
        </p:grpSpPr>
        <p:sp>
          <p:nvSpPr>
            <p:cNvPr id="65" name="Rectangle 3"/>
            <p:cNvSpPr/>
            <p:nvPr/>
          </p:nvSpPr>
          <p:spPr>
            <a:xfrm>
              <a:off x="8380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10666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12952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15238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17524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28954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19810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26668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24382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22096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3"/>
          <p:cNvSpPr/>
          <p:nvPr/>
        </p:nvSpPr>
        <p:spPr>
          <a:xfrm>
            <a:off x="3733920" y="7621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fraction of the rectangle is gre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533520" y="43434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ecimal part of the rectangle is gre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5"/>
              <p:cNvSpPr txBox="1"/>
              <p:nvPr/>
            </p:nvSpPr>
            <p:spPr>
              <a:xfrm>
                <a:off x="4724280" y="2133720"/>
                <a:ext cx="8272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Text Box 16"/>
          <p:cNvSpPr/>
          <p:nvPr/>
        </p:nvSpPr>
        <p:spPr>
          <a:xfrm>
            <a:off x="5486400" y="44197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7238880" y="304812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sound alike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rite a decimal as a fraction, write the fraction as you would say the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819520" y="4114800"/>
            <a:ext cx="373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.123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523880" y="3271680"/>
            <a:ext cx="1143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2750" y="40500"/>
                </a:moveTo>
                <a:lnTo>
                  <a:pt x="23040" y="4000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219320" y="2457360"/>
            <a:ext cx="19335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539" y="69863"/>
                </a:moveTo>
                <a:lnTo>
                  <a:pt x="22451" y="4000"/>
                </a:lnTo>
              </a:path>
              <a:path w="21600" h="21600">
                <a:moveTo>
                  <a:pt x="22451" y="0"/>
                </a:moveTo>
                <a:lnTo>
                  <a:pt x="2245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1219320" y="5800680"/>
            <a:ext cx="2590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097" y="-21769"/>
                </a:moveTo>
                <a:lnTo>
                  <a:pt x="22235" y="4000"/>
                </a:lnTo>
              </a:path>
              <a:path w="21600" h="21600">
                <a:moveTo>
                  <a:pt x="22235" y="0"/>
                </a:moveTo>
                <a:lnTo>
                  <a:pt x="2223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6491160" y="2671920"/>
            <a:ext cx="2271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691" y="62269"/>
                </a:moveTo>
                <a:lnTo>
                  <a:pt x="-725" y="4000"/>
                </a:lnTo>
              </a:path>
              <a:path w="21600" h="21600">
                <a:moveTo>
                  <a:pt x="-725" y="0"/>
                </a:moveTo>
                <a:lnTo>
                  <a:pt x="-72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-thousan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6248520" y="5638680"/>
            <a:ext cx="2590560" cy="9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22" y="-9564"/>
                </a:moveTo>
                <a:lnTo>
                  <a:pt x="-635" y="2579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dred-thousan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y the decimal….Write it as a 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2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724280" y="1905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ice….when you change a decimal to a fraction the denominator is always 10, 100, 1000 (powers of ten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at all there 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1295280" y="1828800"/>
            <a:ext cx="6477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f Course N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0" y="41148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have to simplify the fraction if po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5800" y="9907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e .6 as a f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1066680" y="2057400"/>
            <a:ext cx="2971800" cy="1415880"/>
            <a:chOff x="1066680" y="2057400"/>
            <a:chExt cx="2971800" cy="1415880"/>
          </a:xfrm>
        </p:grpSpPr>
        <p:sp>
          <p:nvSpPr>
            <p:cNvPr id="95" name="Text Box 5"/>
            <p:cNvSpPr/>
            <p:nvPr/>
          </p:nvSpPr>
          <p:spPr>
            <a:xfrm>
              <a:off x="1066680" y="2286000"/>
              <a:ext cx="297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.6 =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6"/>
                <p:cNvSpPr txBox="1"/>
                <p:nvPr/>
              </p:nvSpPr>
              <p:spPr>
                <a:xfrm>
                  <a:off x="2590560" y="2057400"/>
                  <a:ext cx="730080" cy="14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WordArt 7"/>
          <p:cNvSpPr txBox="1"/>
          <p:nvPr/>
        </p:nvSpPr>
        <p:spPr>
          <a:xfrm rot="5400000">
            <a:off x="3436920" y="2582640"/>
            <a:ext cx="1984320" cy="781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BU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105520" y="2057400"/>
            <a:ext cx="3581280" cy="1371600"/>
            <a:chOff x="5105520" y="2057400"/>
            <a:chExt cx="3581280" cy="1371600"/>
          </a:xfrm>
        </p:grpSpPr>
        <mc:AlternateContent>
          <mc:Choice xmlns:a14="http://schemas.microsoft.com/office/drawing/2010/main" Requires="a14">
            <p:sp>
              <p:nvSpPr>
                <p:cNvPr id="99" name="Object 8"/>
                <p:cNvSpPr txBox="1"/>
                <p:nvPr/>
              </p:nvSpPr>
              <p:spPr>
                <a:xfrm>
                  <a:off x="5105520" y="2057400"/>
                  <a:ext cx="70776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Text Box 9"/>
            <p:cNvSpPr/>
            <p:nvPr/>
          </p:nvSpPr>
          <p:spPr>
            <a:xfrm>
              <a:off x="6019920" y="220968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an be simplified to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2133720" y="4419720"/>
                <a:ext cx="556920" cy="15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2" name="Group 15"/>
          <p:cNvGrpSpPr/>
          <p:nvPr/>
        </p:nvGrpSpPr>
        <p:grpSpPr>
          <a:xfrm>
            <a:off x="4726080" y="4343400"/>
            <a:ext cx="1850760" cy="1568520"/>
            <a:chOff x="4726080" y="4343400"/>
            <a:chExt cx="1850760" cy="1568520"/>
          </a:xfrm>
        </p:grpSpPr>
        <mc:AlternateContent>
          <mc:Choice xmlns:a14="http://schemas.microsoft.com/office/drawing/2010/main" Requires="a14">
            <p:sp>
              <p:nvSpPr>
                <p:cNvPr id="103" name="Object 13"/>
                <p:cNvSpPr txBox="1"/>
                <p:nvPr/>
              </p:nvSpPr>
              <p:spPr>
                <a:xfrm>
                  <a:off x="6019920" y="4343400"/>
                  <a:ext cx="556920" cy="15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Text Box 14"/>
            <p:cNvSpPr/>
            <p:nvPr/>
          </p:nvSpPr>
          <p:spPr>
            <a:xfrm>
              <a:off x="4726080" y="4800600"/>
              <a:ext cx="113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.6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WordArt 16"/>
          <p:cNvSpPr txBox="1"/>
          <p:nvPr/>
        </p:nvSpPr>
        <p:spPr>
          <a:xfrm rot="5400000">
            <a:off x="3047760" y="487656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fractions to decim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31240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write a fraction as a decimal by dividing the numerator by the denominator…..the fraction symbol means divisio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0"/>
          <p:cNvGrpSpPr/>
          <p:nvPr/>
        </p:nvGrpSpPr>
        <p:grpSpPr>
          <a:xfrm>
            <a:off x="533520" y="457200"/>
            <a:ext cx="7619760" cy="6082920"/>
            <a:chOff x="533520" y="457200"/>
            <a:chExt cx="7619760" cy="6082920"/>
          </a:xfrm>
        </p:grpSpPr>
        <mc:AlternateContent>
          <mc:Choice xmlns:a14="http://schemas.microsoft.com/office/drawing/2010/main" Requires="a14">
            <p:sp>
              <p:nvSpPr>
                <p:cNvPr id="109" name="Object 2"/>
                <p:cNvSpPr txBox="1"/>
                <p:nvPr/>
              </p:nvSpPr>
              <p:spPr>
                <a:xfrm>
                  <a:off x="533520" y="457200"/>
                  <a:ext cx="2577960" cy="195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3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3"/>
            <p:cNvSpPr/>
            <p:nvPr/>
          </p:nvSpPr>
          <p:spPr>
            <a:xfrm>
              <a:off x="4724280" y="838080"/>
              <a:ext cx="3429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o make a decimal…do the division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2895480" y="27432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5"/>
            <p:cNvGrpSpPr/>
            <p:nvPr/>
          </p:nvGrpSpPr>
          <p:grpSpPr>
            <a:xfrm>
              <a:off x="1981080" y="2590920"/>
              <a:ext cx="2514600" cy="3110760"/>
              <a:chOff x="1981080" y="2590920"/>
              <a:chExt cx="2514600" cy="3110760"/>
            </a:xfrm>
          </p:grpSpPr>
          <mc:AlternateContent>
            <mc:Choice xmlns:a14="http://schemas.microsoft.com/office/drawing/2010/main" Requires="a14">
              <p:sp>
                <p:nvSpPr>
                  <p:cNvPr id="113" name="Object 4"/>
                  <p:cNvSpPr txBox="1"/>
                  <p:nvPr/>
                </p:nvSpPr>
                <p:spPr>
                  <a:xfrm>
                    <a:off x="1981080" y="2590920"/>
                    <a:ext cx="1150920" cy="120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3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Text Box 7"/>
              <p:cNvSpPr/>
              <p:nvPr/>
            </p:nvSpPr>
            <p:spPr>
              <a:xfrm>
                <a:off x="2895480" y="2666880"/>
                <a:ext cx="1600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.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8"/>
              <p:cNvSpPr/>
              <p:nvPr/>
            </p:nvSpPr>
            <p:spPr>
              <a:xfrm>
                <a:off x="2666880" y="350496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28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9"/>
              <p:cNvSpPr/>
              <p:nvPr/>
            </p:nvSpPr>
            <p:spPr>
              <a:xfrm>
                <a:off x="2514600" y="42670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1"/>
              <p:cNvSpPr/>
              <p:nvPr/>
            </p:nvSpPr>
            <p:spPr>
              <a:xfrm>
                <a:off x="2971800" y="426708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4"/>
              <p:cNvSpPr/>
              <p:nvPr/>
            </p:nvSpPr>
            <p:spPr>
              <a:xfrm>
                <a:off x="2973600" y="4876560"/>
                <a:ext cx="79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Line 16"/>
            <p:cNvSpPr/>
            <p:nvPr/>
          </p:nvSpPr>
          <p:spPr>
            <a:xfrm>
              <a:off x="2895480" y="563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3278160" y="571500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125880" y="1905120"/>
              <a:ext cx="94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.7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9"/>
            <p:cNvSpPr/>
            <p:nvPr/>
          </p:nvSpPr>
          <p:spPr>
            <a:xfrm>
              <a:off x="3657600" y="3505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8:19:10Z</dcterms:created>
  <dc:creator>user</dc:creator>
  <dc:description/>
  <dc:language>en-US</dc:language>
  <cp:lastModifiedBy>LK</cp:lastModifiedBy>
  <dcterms:modified xsi:type="dcterms:W3CDTF">2011-02-03T15:01:22Z</dcterms:modified>
  <cp:revision>13</cp:revision>
  <dc:subject/>
  <dc:title>Decimals</dc:title>
</cp:coreProperties>
</file>